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E81-570E-4B9D-A6A7-88AC5ECD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524-D5F0-492C-9B3D-544B0BE1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A26-6855-48E0-8AD2-976DA0B6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DAE-EB59-4886-82F2-8BD0DECE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8708-E458-4954-A16A-03F129F6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06E-A9DA-4368-BF78-5BA764C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F95-BC41-486A-831F-F8E294DE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48C9-B57A-40B3-BC22-C321AFBC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1FB-EC31-4EC8-BDA5-4C5B631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580-B128-4C60-B215-D2127AF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664-2E2E-443D-810B-09B2D4C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295-33CC-4681-A10E-1B02BA20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99D4-4410-48CE-B268-BE83A3B6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424B-8AB9-4215-94FA-F097CCB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F366-F939-4EC9-9AFF-71C06E6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B59E-91F9-48EE-8E4A-DD74FCED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F367-3027-4A76-9E8A-65D7230F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953-DB7B-474E-9BDC-F3DF2C5B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576-E8D1-42EE-87FD-A01599E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648-1646-4E00-9212-1061FAA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F74-0C86-473B-A7D4-95DA6AFA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6F2-AA4F-485C-B7AB-C5DFFE0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B01-7D9D-460E-9957-EF75DED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426-770A-41FE-B70A-1CD26537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A74-73CE-409B-BB29-C2E0742079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1D3-0401-4D3A-9F97-931053D13F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2CBE-BF70-435D-9693-B7FBC930730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3D1C-6304-466E-BD9D-13C68FF5DA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80600" y="2311560"/>
            <a:ext cx="729324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10253f"/>
                </a:solidFill>
                <a:latin typeface="Century Gothic"/>
              </a:rPr>
              <a:t>COMISION ADMINISTRACION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10253f"/>
                </a:solidFill>
                <a:latin typeface="Century Gothic"/>
              </a:rPr>
              <a:t>DE R</a:t>
            </a:r>
            <a:r>
              <a:rPr b="1" lang="es-ES_tradnl" sz="3300" spc="-1" strike="noStrike">
                <a:solidFill>
                  <a:srgbClr val="10253f"/>
                </a:solidFill>
                <a:latin typeface="Century Gothic"/>
              </a:rPr>
              <a:t>ECURSOS  HUMANO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91" name="7 Marcador de pie de página"/>
          <p:cNvSpPr/>
          <p:nvPr/>
        </p:nvSpPr>
        <p:spPr>
          <a:xfrm>
            <a:off x="468360" y="5732640"/>
            <a:ext cx="79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Mayo de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349000"/>
            <a:ext cx="4103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cc"/>
                </a:solidFill>
                <a:latin typeface="Arial"/>
              </a:rPr>
              <a:t>Exposición</a:t>
            </a: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a. C.P.  Yamila Gruñeiro</a:t>
            </a: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a. C.P.  Patricia Micó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3cccc"/>
                </a:solidFill>
                <a:latin typeface="Arial"/>
              </a:rPr>
              <a:t>Exposición y Coordinación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. C.P. Antonio Omar Molina</a:t>
            </a:r>
            <a:r>
              <a:rPr b="1" lang="en-US" sz="12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Cómo liquidar haberes  con aplicación del Convenio de la Alimentación 244/9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95" name="7 Marcador de pie de página"/>
          <p:cNvSpPr/>
          <p:nvPr/>
        </p:nvSpPr>
        <p:spPr>
          <a:xfrm>
            <a:off x="75564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MPj04226110000[1]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27"/>
          <p:cNvSpPr/>
          <p:nvPr/>
        </p:nvSpPr>
        <p:spPr>
          <a:xfrm>
            <a:off x="539640" y="1125360"/>
            <a:ext cx="800100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Calibri"/>
              </a:rPr>
              <a:t>ESQUEMA GLOBAL DEL TA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28"/>
          <p:cNvSpPr/>
          <p:nvPr/>
        </p:nvSpPr>
        <p:spPr>
          <a:xfrm>
            <a:off x="826920" y="1916280"/>
            <a:ext cx="8136000" cy="41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Calibri"/>
              </a:rPr>
              <a:t>Aspectos formales de la Relación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Desde el inicio hasta la finalización de la relación lab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Calibri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Convenio de la Alimentación 244/94 – Marco legal vi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Calibri"/>
              </a:rPr>
              <a:t>Aspectos Práct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Caso práctico de liquidación sobre Convenio de Comercio 244/94, distintos tipos de liquid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Calibri"/>
              </a:rPr>
              <a:t>Complementos de una liquidación de ha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Documentación y calculo de Ganancias 4º categoría para empleados en relación de dependencia, noveda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539640" y="1557360"/>
            <a:ext cx="8229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Book Antiqua"/>
              </a:rPr>
              <a:t>Procedimientos previos a una liquidación de ha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66"/>
                </a:solidFill>
                <a:latin typeface="Calibri"/>
              </a:rPr>
              <a:t>AL INICIO DE LA RELACION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66"/>
                </a:solidFill>
                <a:latin typeface="Calibri"/>
              </a:rPr>
              <a:t>DURANTE LA RELACION LAB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06600" indent="-457200">
              <a:lnSpc>
                <a:spcPct val="5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6666"/>
                </a:solidFill>
                <a:latin typeface="Calibri"/>
              </a:rPr>
              <a:t>AL FINALIZAR LA RELACION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Rectángulo"/>
          <p:cNvSpPr/>
          <p:nvPr/>
        </p:nvSpPr>
        <p:spPr>
          <a:xfrm>
            <a:off x="1835280" y="6237360"/>
            <a:ext cx="54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333399"/>
                </a:solidFill>
                <a:uFillTx/>
                <a:latin typeface="Book Antiqua"/>
              </a:rPr>
              <a:t>Convenio 244/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971640" y="1484280"/>
            <a:ext cx="7704000" cy="3240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Verdana"/>
              </a:rPr>
              <a:t>Aspectos teóricos del Convenio de la Alimentación 244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6666"/>
                </a:solidFill>
                <a:latin typeface="Book Antiqua"/>
              </a:rPr>
              <a:t>Marco legal vig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6666"/>
                </a:solidFill>
                <a:latin typeface="Book Antiqua"/>
              </a:rPr>
              <a:t>Beneficios del convenio</a:t>
            </a:r>
            <a:r>
              <a:rPr b="0" lang="es-ES_tradnl" sz="1600" spc="-1" strike="noStrike">
                <a:solidFill>
                  <a:srgbClr val="006666"/>
                </a:solidFill>
                <a:latin typeface="Book Antiqua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Book Antiqua"/>
              </a:rPr>
              <a:t>Personal comprend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Book Antiqua"/>
              </a:rPr>
              <a:t>Ámbito de a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Book Antiqua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Book Antiqua"/>
              </a:rPr>
              <a:t>Personal comprend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23840" y="1263600"/>
            <a:ext cx="729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900000" y="1125360"/>
            <a:ext cx="72010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3333cc"/>
                </a:solidFill>
                <a:uFillTx/>
                <a:latin typeface="Calibri"/>
              </a:rPr>
              <a:t>Ramas que abarca el convenio 244/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ceitunas y encur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limentos y comidas preelaborados o semielabo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rr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zu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acao Chocolates y bom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af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ereales Y legumbres Industri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ulces y merme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ugos concen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ácteos, leche en polvo, leche condensada y productos de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 y te en saqu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28"/>
          <p:cNvSpPr/>
          <p:nvPr/>
        </p:nvSpPr>
        <p:spPr>
          <a:xfrm>
            <a:off x="971640" y="2421000"/>
            <a:ext cx="7632720" cy="2520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cc"/>
                </a:solidFill>
                <a:latin typeface="Calibri"/>
              </a:rPr>
              <a:t>Aspectos Prácticos del Conven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6666"/>
                </a:solidFill>
                <a:latin typeface="Calibri"/>
              </a:rPr>
              <a:t>         </a:t>
            </a: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Caso práctico de liquidación sobre Convenio de Comercio 244/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Liquidación quincenal y mens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S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Despido con justa ca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66"/>
                </a:solidFill>
                <a:latin typeface="Calibri"/>
              </a:rPr>
              <a:t>Despido sin justa ca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28"/>
          <p:cNvSpPr/>
          <p:nvPr/>
        </p:nvSpPr>
        <p:spPr>
          <a:xfrm>
            <a:off x="900000" y="2421000"/>
            <a:ext cx="7704360" cy="2520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Verdana"/>
              </a:rPr>
              <a:t>Complementos de una liquidación de ha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6666"/>
                </a:solidFill>
                <a:latin typeface="Calibri"/>
              </a:rPr>
              <a:t>documentación previa y durante la relación laboral  en la Liquidación impuestos a las ganancias 4º catego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6666"/>
                </a:solidFill>
                <a:latin typeface="Calibri"/>
              </a:rPr>
              <a:t>Novedades y coment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971640" y="1413000"/>
            <a:ext cx="7056360" cy="790560"/>
          </a:xfrm>
          <a:prstGeom prst="rect">
            <a:avLst/>
          </a:prstGeom>
          <a:noFill/>
          <a:ln w="936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50920" y="1197000"/>
            <a:ext cx="8642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3333cc"/>
                </a:solidFill>
                <a:latin typeface="Calibri"/>
              </a:rPr>
              <a:t>¡ Muchas gracia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788000" y="2852640"/>
            <a:ext cx="410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Verdana"/>
              </a:rPr>
              <a:t>Mail de contacto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yamilabgruneiro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micopatricia@yahoo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estudioz@ciudad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7 Marcador de pie de página"/>
          <p:cNvSpPr/>
          <p:nvPr/>
        </p:nvSpPr>
        <p:spPr>
          <a:xfrm>
            <a:off x="75564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5 Título"/>
          <p:cNvSpPr/>
          <p:nvPr/>
        </p:nvSpPr>
        <p:spPr>
          <a:xfrm>
            <a:off x="539640" y="2852640"/>
            <a:ext cx="4103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Calibri"/>
              </a:rPr>
              <a:t>Exposició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. C.P.  Yamila Gruñeir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. C.P.  Patricia Micó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33cccc"/>
                </a:solidFill>
                <a:latin typeface="Calibri"/>
              </a:rPr>
              <a:t>Exposición y Coordinació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. C.P. Antonio Omar Molina</a:t>
            </a: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34:39Z</dcterms:created>
  <dc:creator>.</dc:creator>
  <dc:description/>
  <dc:language>en-US</dc:language>
  <cp:lastModifiedBy>om</cp:lastModifiedBy>
  <dcterms:modified xsi:type="dcterms:W3CDTF">2012-05-18T08:56:00Z</dcterms:modified>
  <cp:revision>138</cp:revision>
  <dc:subject/>
  <dc:title>Diapositiva 1</dc:title>
</cp:coreProperties>
</file>